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C99-67CA-4BA3-A56C-B9095A51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C30-2C83-4E76-8FBC-E608C5A9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36B-3600-4B32-8C1D-50874EEB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763-BC00-4C1B-AEAD-6AC6484F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A066-D40E-46E9-971C-08B32402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C641-9206-4681-9CE0-8516D944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46D5-6D66-4DA7-B5F3-C0E655D1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CC53-D9DC-4C66-88D9-59D947D2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E880-2391-416A-A874-EB5AFCE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17E0-FCDC-4E93-BE7B-957596B5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29D8-29D4-40D7-AE1D-F9E97774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CB2-67AF-4615-B8A9-FE965E41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2420-8BA4-48B7-9D6F-74CEE4A4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9AE3-3D28-41B5-8E9F-BFDEA0F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1A77-0BD4-4849-8CB7-B659180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F756-D2F2-4483-988B-982E42F5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ED41-734D-4F31-834A-B8A93897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8AD-AAC7-4B11-B7E5-59E458B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2A7-B3D7-410D-AB1B-87987035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790-227A-44DF-B58D-85DBBD4F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A29-939E-4156-BD8E-88AFA723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0B8-5B28-478A-BDEE-71659616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A75-0120-4869-BFFD-39DB4B9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8AF-F7E3-48C2-A01A-23FE0078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C4AF-1842-4EAE-A047-24C72AB8F7B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010D-E469-490F-B22A-04657A051D9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i Vacacion a Portillo, Chile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792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y Colin Du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5867280" cy="4202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44960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primer d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í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16436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Quierido Alejand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ui a Chile con mi amigo Nick. En el primer dia, hace buen tiempo. El sol brilla en el cielo. Hace un poco frio. Yo fui a la piscina de la hotel. Yo llev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è un traje de baño para nadar.Estoy en el hotel Tierra Atacama. El hotel es muy bonita y grande. Hay cuatro piscinas. Yo comprè un anorak a la tienda porque lo necesito para esquiar mañan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Beso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li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6320" y="4114800"/>
            <a:ext cx="4190760" cy="2854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35816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5638680" y="0"/>
            <a:ext cx="14940000" cy="7248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7829640" cy="5219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810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6a6a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fa6a6a"/>
                </a:solidFill>
                <a:latin typeface="Arial"/>
                <a:ea typeface="Arial"/>
              </a:rPr>
              <a:t>í</a:t>
            </a:r>
            <a:r>
              <a:rPr b="0" lang="en-US" sz="3600" spc="-1" strike="noStrike">
                <a:solidFill>
                  <a:srgbClr val="fa6a6a"/>
                </a:solidFill>
                <a:latin typeface="Arial"/>
              </a:rPr>
              <a:t>a Do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9051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1143000"/>
            <a:ext cx="71625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erido Alejandr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y, hace frio y hace sol. Yo fui esqu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uera de un heli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tero hoy. Me gusta. Yo lle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é un anorak, dos guantes, pantalones, y una gorra. Yo subé la pista para expertos. No subé la pista pricipiante. Despues de esquí, yo compré nuevos bastones y esquís. Yo nadé en la piscina de nuevo. Esta noche, comé a la ristorante Tio Bob’s. Tio Bob’s esta en la montaña. La pollo y todo de la comida fui muy bie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brazos y Besos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lin Dun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45720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209680" y="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d0707"/>
                </a:solidFill>
                <a:latin typeface="Arial"/>
              </a:rPr>
              <a:t>D</a:t>
            </a:r>
            <a:r>
              <a:rPr b="0" lang="en-US" sz="4400" spc="-1" strike="noStrike">
                <a:solidFill>
                  <a:srgbClr val="bd0707"/>
                </a:solidFill>
                <a:latin typeface="Arial"/>
                <a:ea typeface="Arial"/>
              </a:rPr>
              <a:t>í</a:t>
            </a:r>
            <a:r>
              <a:rPr b="0" lang="en-US" sz="4400" spc="-1" strike="noStrike">
                <a:solidFill>
                  <a:srgbClr val="bd0707"/>
                </a:solidFill>
                <a:latin typeface="Arial"/>
              </a:rPr>
              <a:t>a Tre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990720"/>
            <a:ext cx="6553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Quierido Colin Hanrahan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oy, yo fui a el Centro Cultural Palacio la Moneda. Hace mal tiempo. Nieva y hace frio. Llev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é un camera. Tomé picturas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 el museo, hay muchas picturas y peliculas de Chile. Fue muy interesante. Despues, Fui un partido de f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utbol. Los equipos son Colo-Colo y Rangers. Colo-Colo ganó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Con Todo mi afect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Colin Dun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003640" y="3733920"/>
            <a:ext cx="2768760" cy="4038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990720" y="3738600"/>
            <a:ext cx="40384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058400" cy="701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905120" y="304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Dia Cuatr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219320"/>
            <a:ext cx="73915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Quierido Antoni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Hoy, yo visit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é 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</a:rPr>
              <a:t>Parque Nacional Lauca. Tom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é mucha agua. Hay muchos animales y plantas en el parque. Mi animal favorita fui la alpaca. Yo no fui a la playa hoy, o esquié. Despues,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yo fui a la restaurante de el hotel. El pescado con arroz fui muy bien. Estoy muy cansado ahora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Un fuerte abraz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99ff66"/>
                </a:solidFill>
                <a:latin typeface="Arial"/>
                <a:ea typeface="Arial"/>
              </a:rPr>
              <a:t>Col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267080" y="5105520"/>
            <a:ext cx="2419560" cy="1885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705720" y="514368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304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6a6a"/>
                </a:solidFill>
                <a:latin typeface="Arial"/>
              </a:rPr>
              <a:t>Dia Cin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523880"/>
            <a:ext cx="5715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erido Nick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y, yo fui a el centro commercial. Tiene muchos pisos y tienas. Es muy grande. Yo comp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é una toalla playera y una gorra. No compré una camisa o esquis. Yo no quiero volver a casa. Es muy bonita aqui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Un brazo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l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03:45Z</dcterms:created>
  <dc:creator>dunncol</dc:creator>
  <dc:description/>
  <dc:language>en-US</dc:language>
  <cp:lastModifiedBy>dunncol</cp:lastModifiedBy>
  <dcterms:modified xsi:type="dcterms:W3CDTF">2012-11-30T17:03:30Z</dcterms:modified>
  <cp:revision>9</cp:revision>
  <dc:subject/>
  <dc:title>Mi Vacacion a Portillo, Chile!</dc:title>
</cp:coreProperties>
</file>